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873B-41BD-46B8-BEC1-2A6622BFE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ALIGNED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TRAINING POWERPOINT SCRI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1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sylvania Department of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 Hills School Distr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57265B1-E3E7-4BFC-8C9A-4721FE475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B5BF-5FCC-4512-B065-1578B37A9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1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sylvania Department of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 Hills School Distr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ALIGNED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TRAINING POWERPOINT SCRI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1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sylvania Department of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 Hills School Distr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ALIGNED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TRAINING POWERPOINT SCRI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5BE6-A05E-488F-A3EB-721AD33BD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1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sylvania Department of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 Hills School Distr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ALIGNED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TRAINING POWERPOINT SCRI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7DD-F016-40A9-899C-598028A4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397-0554-4E67-8856-7C64D3A9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202-831E-482D-A337-2F6ACF9D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7C58-6351-470F-BCC8-07CAA5C7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0EB-D488-42BD-9CB1-CAD0D13C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987-7BF2-47C6-B9DE-3BFAE993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F3E1-BAAC-4D28-BEA9-EAB7A940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7047-4CD9-46F7-A6D0-CBC3D079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7FB-0304-43A7-9860-61E077D1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715-2B1B-4CFB-B64C-F660291C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3B2-3BAF-4231-BC10-4F9F52A9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5B8-856B-4219-A07D-440954A3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A04B-2DA8-4925-902D-85041FBE1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desas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desas.org/Standard/Views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desas.org/Standard/Views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4582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ASD Libraria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Do You Speak SAS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hat We Need to Know to Survive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October 25,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Framework Quiz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2057400"/>
            <a:ext cx="441936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s reflect time, place and culture in elements of staging and playwri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29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Big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 Essential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 Compet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 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Framework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057040"/>
            <a:ext cx="403848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ging  - the process or manner of putting on a p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Big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 Essential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 Compet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 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Framework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057400"/>
            <a:ext cx="403848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plays from varied times and culture, e.g. Shakespearean theatre, and analyze elements of staging and playwriting present in the pl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Big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 Essential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 Compet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 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Framework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4038480" cy="304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s have expressed experiences and ideas through the arts through-out time and across cult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Big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 Essential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 Compet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 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Framework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981080"/>
            <a:ext cx="40384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plays reflect time, place and cul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Big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 Essential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 Compet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 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28680" y="1573200"/>
            <a:ext cx="8407440" cy="4230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474480" y="5638680"/>
            <a:ext cx="386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75439"/>
                </a:solidFill>
                <a:latin typeface="Calibri"/>
              </a:rPr>
              <a:t>From the 11</a:t>
            </a:r>
            <a:r>
              <a:rPr b="0" i="1" lang="en-US" sz="1400" spc="-1" strike="noStrike" baseline="30000">
                <a:solidFill>
                  <a:srgbClr val="375439"/>
                </a:solidFill>
                <a:latin typeface="Calibri"/>
              </a:rPr>
              <a:t>th</a:t>
            </a:r>
            <a:r>
              <a:rPr b="0" i="1" lang="en-US" sz="1400" spc="-1" strike="noStrike">
                <a:solidFill>
                  <a:srgbClr val="375439"/>
                </a:solidFill>
                <a:latin typeface="Calibri"/>
              </a:rPr>
              <a:t> Grade History Curriculum Frame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Diagram 5" descr=""/>
          <p:cNvPicPr/>
          <p:nvPr/>
        </p:nvPicPr>
        <p:blipFill>
          <a:blip r:embed="rId2"/>
          <a:stretch/>
        </p:blipFill>
        <p:spPr>
          <a:xfrm>
            <a:off x="0" y="353880"/>
            <a:ext cx="175572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ir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Four Typ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Summativ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– measures overall achievement typically at the end of a course (PSSA, Keyston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Formati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not a test but an ongoing  proc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Benchmar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measures achievement of important grade level content periodically during the year (4Sight, DIBELS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Diagnostic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– measures and identifies specific student strengths, weaknesses, skills and knowledge before and during instruction (CDT [Classroom Diagnostic Tools], G-MADE [Group Mathematics Assessment and Diagnostic Evaluation]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 Elements - Materials &amp;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Progre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s and Resources Aligned to the Unit and Lesson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s and Resources Aligned to the Other SAS Cir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80740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Oval 4"/>
          <p:cNvSpPr/>
          <p:nvPr/>
        </p:nvSpPr>
        <p:spPr>
          <a:xfrm>
            <a:off x="5715000" y="1600200"/>
            <a:ext cx="1828800" cy="5335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untary Model Curricul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t is no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complete year-long curricul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complete set of unit and lesson plans built upon selected learning progres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t is and includ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rning progressions – carefully sequenced set of building blocks that all students must master en route to mastering a more distant curricular ai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it Plan – a segment of the learning progression focused on critical topic/the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on Plan – a written guide that specifically outlines the intended learning 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jectiv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e and practice navigation of the PA Standards Aligned System (SAS) Web portal to enhance effective instructional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y the six elements of the SAS in schools to increase student achie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e a thorough understanding of the overall features, functions and resources of the 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gn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ing topics aligned with the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ing the right level of challe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ing teaching based on the learning needs of each stu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ing instructional strategies to increase student achie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28600" y="204840"/>
            <a:ext cx="861048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ONENTS OF A LESS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Plan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de level/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ctional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ggested Instructional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ative Assess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d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FBAE-8F7A-49AC-A52A-AE670362D4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28600" y="2465280"/>
            <a:ext cx="3848040" cy="39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 algn="ctr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ONENTS OF A UNIT PLA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d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Plan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62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62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de level/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62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62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62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ERET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229600" cy="4191120"/>
        </p:xfrm>
        <a:graphic>
          <a:graphicData uri="http://schemas.openxmlformats.org/drawingml/2006/table">
            <a:tbl>
              <a:tblPr/>
              <a:tblGrid>
                <a:gridCol w="533520"/>
                <a:gridCol w="769608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students underst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he unit is headed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O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tudent in the beginning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L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heir attention throug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tudents with necessary experiences, tools, knowledge and know-how to meet the performance tar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students with numerous opportunities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HIN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ig ideas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LE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n progress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heir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ild in opportunities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LUA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rogress and self-ass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ILOR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o reflect individual talents, interests, styles, and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GANIZ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o optimize deep understanding to superficial conve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499080" y="314280"/>
          <a:ext cx="208080" cy="3650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acher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38360" y="1600200"/>
            <a:ext cx="7667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tivity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ilding a Lesson Planner C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ll(s):  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Knowledge:  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e/Age Group:  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 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ructional strategies: 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: 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s:  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ool Librarians and S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understanding the SAS Portal and its components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ill you use on/from the SAS Port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prepare lesson plans?  What type of  assessments do you include in your instru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de what tools will help you and practice using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 and learn from other faculty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roll in SAS and get access to the teacher tools, build a web page, start a portfolio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er to assist in the use of the portal in small professional development activities for your peers and building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SAS?</a:t>
            </a:r>
            <a:br>
              <a:rPr sz="4000"/>
            </a:br>
            <a:r>
              <a:rPr b="0" lang="en-US" sz="40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pdesas.or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4304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finition – a collaborative product of research and good practice that identifies six distinct el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story – Portal unveiled in Dec. 2009 during 2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entury Teaching and Learning Institu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under constr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 el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4114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 SAS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ear Stand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ir Assess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riculum Fra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erials &amp;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ven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r Stand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d3232"/>
                </a:solidFill>
                <a:latin typeface="Calibri"/>
              </a:rPr>
              <a:t>PA Standard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what students should know and be able to do.  They increase in complexity and sophistication as students progress through scho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d3232"/>
                </a:solidFill>
                <a:latin typeface="Calibri"/>
              </a:rPr>
              <a:t>Assessment Anch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rify the Standards assessed on the PA System of School Assessment (PSS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d3232"/>
                </a:solidFill>
                <a:latin typeface="Calibri"/>
              </a:rPr>
              <a:t>Eligible Conte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ies how deeply an Anchor should be covered and specifies the range of the content to best prepare students for the PSS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ear Standards   </a:t>
            </a:r>
            <a:r>
              <a:rPr b="0" lang="en-US" sz="40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www.pdesas.org/Standard/View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ve ways to view the standards using the Port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w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ical Vie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word 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763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ear Standards   </a:t>
            </a:r>
            <a:r>
              <a:rPr b="0" lang="en-US" sz="24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www.pdesas.org/Standard/Vie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187200" y="1066680"/>
            <a:ext cx="8728200" cy="5639040"/>
          </a:xfrm>
          <a:prstGeom prst="rect">
            <a:avLst/>
          </a:prstGeom>
          <a:ln w="0">
            <a:noFill/>
          </a:ln>
        </p:spPr>
      </p:pic>
      <p:cxnSp>
        <p:nvCxnSpPr>
          <p:cNvPr id="63" name="Straight Arrow Connector 12"/>
          <p:cNvCxnSpPr/>
          <p:nvPr/>
        </p:nvCxnSpPr>
        <p:spPr>
          <a:xfrm flipH="1">
            <a:off x="1751760" y="990720"/>
            <a:ext cx="1600920" cy="1219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Ideas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(declarative statements that describe concepts that transcend grade leve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Questions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(questions connected to the SAS framework  and specifically to the Big Ide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s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(what students should know as a result of this instruction specific to grade lev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etencies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(what students should be able to do, key skills, as a result of instruction, specific to grade lev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cabulary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(key terminology linked to the Standards, Big Ideas, Concept and Competencies in a specific content area and grade lev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mplars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(provide educators with a concrete example of assessing students’ understanding of the big ideas, concepts and competenc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Framework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80880" y="1314360"/>
            <a:ext cx="8588520" cy="5162760"/>
          </a:xfrm>
          <a:prstGeom prst="rect">
            <a:avLst/>
          </a:prstGeom>
          <a:ln w="0">
            <a:noFill/>
          </a:ln>
        </p:spPr>
      </p:pic>
      <p:cxnSp>
        <p:nvCxnSpPr>
          <p:cNvPr id="68" name="Straight Arrow Connector 5"/>
          <p:cNvCxnSpPr/>
          <p:nvPr/>
        </p:nvCxnSpPr>
        <p:spPr>
          <a:xfrm flipH="1">
            <a:off x="2057040" y="913320"/>
            <a:ext cx="3124800" cy="15246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3:27:39Z</dcterms:created>
  <dc:creator/>
  <dc:description/>
  <dc:language>en-US</dc:language>
  <cp:lastModifiedBy>Joanne Hammond</cp:lastModifiedBy>
  <dcterms:modified xsi:type="dcterms:W3CDTF">2011-10-24T13:39:47Z</dcterms:modified>
  <cp:revision>3</cp:revision>
  <dc:subject/>
  <dc:title> CASD Librarians: Do You Speak SAS?  What We Need to Know to Survive </dc:title>
</cp:coreProperties>
</file>